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30F6-D10E-4E34-B137-60DA72D0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E3B2-B2BD-456E-A2E6-0053E71B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6FEEA-7C03-4A09-AA70-705704FC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0579F-A9F6-4361-AA10-E33596ED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2AC2F-B370-434D-A5C8-BBD1D54A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5302E-2B1B-42EE-ABDD-ED5A2A27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629FC-37C2-40A6-B53D-2E579766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4EE17-DD86-4238-B8C8-16DADEFB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5D221-5B4C-48F4-B8E7-BDB6A0CF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32889-07C0-4173-B77C-D836F5CF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94C33-6950-4174-95AE-F2BC73D1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6B7A-D6E5-4B88-8862-BD9A3C47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960D-5EF0-4327-8FB4-E038A6EC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8E76-B315-4166-AA03-8E1E1D48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D062-08E4-44A2-A458-DBCE4CF3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1405-C17F-46F9-8331-694EF4F3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C827-9760-4B2A-9FBA-9669A74F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78AB-DBEA-4A18-B60E-EB2A5FF1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44E0-4222-409C-8FD3-18C95A88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BEBE-B455-4A4C-AFC4-321A50D6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EAE-7CF9-4473-9E62-29163B11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4BCE-4B7F-4D62-A3A0-B9EBC9A5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4491-F209-4A12-80E5-435E0336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1F4D-0464-44B6-88C5-B6151645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A125-6425-43DB-A288-6D2E1FFC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5E45-2432-481E-9901-790AC85B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38754-A495-4068-8AED-F8912794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13A8E-7BF7-4ADC-AA32-424C9A0F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4ECD9-BD41-4A31-BB2E-0C77F3EF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BBCB5-FF4F-4982-B699-D79FA751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395E1-5512-4BB6-9C79-F1B684E9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4C62-14C6-45FD-898E-8A1C958E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FFCC9-8190-44A7-AF5D-EE281A84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EC6A3-53B4-46BC-A23F-35D36FB2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1AA31-CDA9-46BB-8C5E-E207DEEA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9A265-24E9-4A7D-B736-686F0790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67542-3002-4A25-BFC3-C2648F84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E3BAA-731E-4914-8903-C88F17CA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8494F-549C-484B-9965-E0EE1673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05AFC-7B54-496B-A073-9DF9AF0F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07A7A-1AC6-4CC4-A1AF-558226C5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CE9FA-4BEF-4804-8C64-DD782665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56C9-D33B-4A4E-BE75-5C5D7550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A7F8F-AFED-495B-8D34-0D310CCE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8D088-0732-4647-B56E-481F976D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8349F-986D-46B5-804E-371A54BB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91C7B-9725-4E9F-9CBD-ACFFB174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FB28B-CDEE-4777-B933-3F7808A5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772DB-26F2-4245-A296-CED15064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2AEB5-C0F9-4C14-A597-DACB92C9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E5CD0-353E-4BEF-8D8E-98110C17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44EF0-2397-4248-8D09-E9C22F67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FA61A-E0A3-4BDA-A941-70C117A3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36C5-137C-4BEF-99B6-EB976DDF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4352C-589D-4124-BE30-71EBFF97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4F9A5-298F-4DED-9BE0-FAEC82AA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62016-EE2E-4465-9CA2-5CD5822E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45E13-57DB-44B8-9C91-4F512F8F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F2068-1228-46B4-B604-ACAA6C13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2AF12-9631-4E4A-B9A8-4C4F336B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7C74D-80A0-4542-9CED-D1EE337B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6D1E6-ACD4-4821-B58B-B217A8D7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920C8-DCF4-41E7-AE06-8456C5BB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8E16C-1D16-46EF-A3DD-16DA6CA2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30A2-5747-4445-A621-23C35D7B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BFE50-80A3-4477-A45A-500BD26B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5E89B-76E9-4F14-8F76-0F97959D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8A952-30C1-49EC-8BCF-04149549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A8E52-9084-4CEC-8D75-A184713B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E347B-9D84-4A0A-B81E-17D6CE2C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C2214-ED81-42DF-B61B-591B71A0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3AA69-9083-484C-99FB-CF52DB2D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5CC1A-3196-44E7-A2C2-D0D6A6C2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B36C3-5989-4302-97EC-3C719341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7BAC5-CB7D-461F-9994-94689AC7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EE8B-5762-4F00-B7A6-08C8F4A7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F5670-7FE2-4738-8667-E66575A4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559A8-A0F6-40A3-A9CF-3546BB37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2A893-93A6-4EEE-B0A5-3D25EFAF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27F45-8404-4B1E-B336-E3A767A6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BAF76-508F-4217-9004-16C24EE3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32116-670E-4638-BBC0-988FBAFC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D40E8-A120-4046-836C-A09E4F2E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092D2-663C-44D4-86A3-88524066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750F0-9A06-4FFF-B454-A52D627A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06441-0FB9-457C-9132-534618BB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6BBA-313A-4D40-AC1E-BE221BA6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98AC7-960E-44F7-96B0-A84A928F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BB23A-55D4-46FA-A832-21B9BC73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4BB0C-FF70-4F7A-AD51-42E6A4F0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A1F9B-3EAC-47B1-9B84-8D14E2F5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B29C9-4F43-4A62-A0CE-9B0A62BE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B247B-7A2F-4AFF-9C09-788E6661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31B84-D9BE-440D-9796-BE07AF08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D3DB7-6000-49DF-97B1-E7B59503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2D1A7-1EEA-4099-8091-581AFE8F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517B2-A6C0-406E-9411-61FEC43C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E93-2192-4CF8-921D-A1344A83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09485-B27E-48AB-BC4D-48000985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F81C4-B782-460B-BA73-2B56D83F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B1D09-E026-4F75-8471-32B96534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FB763-1940-4C4C-A91D-2A449C46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9EE19-0907-4B7B-A96D-E5425D52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37F80-17B1-4E64-A852-BFC90D30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DB384-A25E-45FA-88D2-BD5DB081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5F91A-5D0E-4F32-9937-26B2D4D3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8AD0D-B4F8-465C-96B9-611027C4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530B5-4CF1-4952-AA49-1DAD8FA5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ADFD-7E82-4678-BB7A-F48D5CBD7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1E1C-9832-4BDB-9EAF-A91DBEE7AB13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3497-610E-41F1-BB59-277E76C0A7C6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24DB-90CA-4A75-B4A9-CBA05904A512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6BAB-B541-4A58-9A95-464027C74841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C3DB-6B0C-478F-8882-349AAFEFD692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B7F3-509A-408E-9B22-9ECEF9A5BD65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FCE3-957C-46E5-80D4-6D694953FE16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F0CC-CB9E-4A7D-9615-1D075E104B46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Biodiversity and Extinctio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hing is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What Caused the American Mass Extinction?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idn’t All Megafauna go Extin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on, Pronghorn, Deer, Grizzly B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Humans Really Hunt Megafau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Asian Mammoth-bone Huts, but Rabbits Are Main Bones in Food D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lled off Saber-Tooth Ca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Humans Kill Off Some Keystone Spec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is Sure Suspi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Eating Our Way to Extinctio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ller’s Sea 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d-Water Relative of Mana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inct 17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A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ghtless, Penguin-like North Atlantic 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iginal “Pengu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e Example of Convergent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inct 18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358164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he Passenger Pigeo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High-Tech Exti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7" descr="http://web1.si.edu/siphotos/science-nature/PIGEON.gif"/>
          <p:cNvPicPr/>
          <p:nvPr/>
        </p:nvPicPr>
        <p:blipFill>
          <a:blip r:embed="rId1"/>
          <a:srcRect l="33544" t="2205" r="18077" b="9701"/>
          <a:stretch/>
        </p:blipFill>
        <p:spPr>
          <a:xfrm>
            <a:off x="4114800" y="304920"/>
            <a:ext cx="4572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he Passenger Pigeo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once have been the most numerous bird on the pl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d 5 b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up 30-40% of all North American 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cks 1 mile wide, 300 miles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ved to travel and bre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against most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D:\Cartoons\Demotivators\Disloyalty.jpg"/>
          <p:cNvPicPr/>
          <p:nvPr/>
        </p:nvPicPr>
        <p:blipFill>
          <a:blip r:embed="rId1"/>
          <a:stretch/>
        </p:blipFill>
        <p:spPr>
          <a:xfrm>
            <a:off x="457200" y="-34920"/>
            <a:ext cx="8229600" cy="689292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Disloyalty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Humans and the Passenger Pige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09480" y="1333440"/>
            <a:ext cx="777240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ke other predators, humans exploited the mass flocks of the passenger pi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ting, mass sho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lroads shipped pigeons to market, created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ines noted by 18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es could probably have survived even this predation, except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Extinction of the Passenger Pige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33160" y="17524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igeons were hunted in nesting s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nters used telegraph to learn of colo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ervation laws too little, too 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st wild pigeons shot Wisconsin, 1899 and Ohio, 1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Extinction of the Passenger Pige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33160" y="14479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ttered birds could not br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tive breeding attempts fai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 bird died in Cincinnati Zoo, September 14, 1914, 1 P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nly extinction we can time to the minu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he Heath He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r Best Just Isn’t Good En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he Heath He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ern race of the prairie chic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ranged from Maine to Virgi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ting caused visible decline by 1800, steep by 18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870, restricted to Martha’s Vineyard, Massachuse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906, only 50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7, Sanctuary esta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Natural Extinction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94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prisingly enough, we know very little about natural exti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ast, known only from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evidence of cause rarely preser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 and Effect hard to estab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st hoc ergo propter ho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if cause established, what’s the mechanis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he Heath Hen – Back From the Brink?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07: Sanctuary established for last 50 bi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1915, number had grown to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cies had been rescu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he Heath Hen – Over the Brink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7-1915: Heath hen had grown from 50 to 2000 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16: Fire destroyed most of re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sh winter and influx of hawks further damaged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ck attacked by disease from domestic tur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927, only 13 left, mostly 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bird died, 19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33526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arolina Parakee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Adaptable for its Own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5" descr="The Carolina Parakeet close-up"/>
          <p:cNvPicPr/>
          <p:nvPr/>
        </p:nvPicPr>
        <p:blipFill>
          <a:blip r:embed="rId1"/>
          <a:stretch/>
        </p:blipFill>
        <p:spPr>
          <a:xfrm>
            <a:off x="4678200" y="304920"/>
            <a:ext cx="4114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arolina Parakee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Parrot Native to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ranged from Virginia to Tex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ed readily to agriculture and became regarded as a 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ly hu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 by 188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een in Florida about 19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ecovering From Near Disaster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etahs once ranged world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ing 20,000 are genetically iden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 extinction 10,000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ons of close inbre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able to re-occupy large range because nothing had filled ecological n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When You Can’t Go Home Agai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Chestnut was once a major food crop and lumber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unted for half the value of eastern ti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astated by blight 1904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trees and viable roots still surv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on blight immu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if blight cured, other trees have filled ecological n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Biodiversity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s of org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-- diversity of genetic information found within species and pop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es -- diversity of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-- diversity of community 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 -- diversity of assemblages of communities (Fox River watersh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scape -- diversity of assemblages of ecosystems (Western Great Lak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Island Biodiversity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islands (mountain tops) always have fewer species than areas on the “mainland” of similar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islands are isolated, it will be harder for species to immigrate to them, lowering the rate of immig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limited resources on islands, carrying capacity will be lower, decreasing population sizes and increasing extinction r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Island Biodiversity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y of island biogeography has been termed the 'First Law of Conservation Biology.'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human actions, natural habitats are becoming increasingly isolated and island-like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dentifying potential mechanisms underlying the loss of species diversity, Island Biogeography Theory may help suggest ways in which we can design nature reserves to maximize their ability to maintain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Habitat Fragmentatio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diversity oft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crea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habitats are frag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pecies need larg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large r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f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on from predators and invaders  (Example: cowbirds and songbird dec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idors as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Natural Extinction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05740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itat Dis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canic Eru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eroid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itat Mod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ntain-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 Leve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tic”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ental Dr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Exotic Speci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nteers – natural chance immigrants (cattle egre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ntentional (rats, English sparro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aped ornamentals (kudzu, purple loosestrif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aped pets (feral cats, house finc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aped domestic animals (pigs, go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-control gone haywire (mongoo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exotics not street sm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gorous exotics have no natural pred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: 80% overrun by exotic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Island Biodiversity and Reserv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rge reserve is better than a small reser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ngle undivided reserve is better than a number of small reser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w large reserves are better than a number of small reser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es should be spaced equally from another, not linear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reserves should be connected with corrid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reserve is small and isolated, it should be circular and not 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he Sixth Extinction?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xth Exti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y Richard Leakey and Roger Lewin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e we creating a mass extinction to rival the other major events in the geologic p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Mass Extinction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36" name="Picture 3" descr="D:\working copy\GRAPHIC0\GenGeology\MassExtinct.gif"/>
          <p:cNvPicPr/>
          <p:nvPr/>
        </p:nvPicPr>
        <p:blipFill>
          <a:blip r:embed="rId1"/>
          <a:stretch/>
        </p:blipFill>
        <p:spPr>
          <a:xfrm>
            <a:off x="838080" y="1143000"/>
            <a:ext cx="76201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Mass Extinction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igher the taxonomic level, the lower the extinction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wipe out a species, hard to wipe out a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0 m.y. ago: 90% of species lost, 50% of families, some orders, no phy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Why High-Order Taxa Surviv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40" name="Picture 1028" descr=""/>
          <p:cNvPicPr/>
          <p:nvPr/>
        </p:nvPicPr>
        <p:blipFill>
          <a:blip r:embed="rId1"/>
          <a:stretch/>
        </p:blipFill>
        <p:spPr>
          <a:xfrm>
            <a:off x="933480" y="1523880"/>
            <a:ext cx="7124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Lazarus Taxa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s that vanish during mass extinctions and then re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they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n’t they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Extinct Speci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571320" y="15998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2100 dinosaur fossils in muse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5 genera, 336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have been 1000-1300 genera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o 1300 living mammal gen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30,000 marine invertebrate genera (more genera living 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Diversity and the Fossil Record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09480" y="118080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rganisms will never be fossi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hard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 or very restri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s where fossilization un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impossible to distinguish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rely on skeletons, shells, hard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nformation on col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nformation on internal 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Fossilizatio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ediment is transported by running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fossils are in water-laid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as toward aquatic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able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strial fossils preserved err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Things that Probably Don’t Cause Natural Extinctions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94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co-evolution of disease and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of New Competitors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organisms already well-ada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What We Wouldn’t Find in the Fossil Record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094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sky seaside sparrow (color variant on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ory-Billed Woodpecker, California Condor, Steller’s Sea Cow (never abund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ain forest species (too restricted, not likely to be fossiliz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What We Would Find in the Fossil Record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0948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inction of Pleistocene megafa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inction of Passenger Pi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in range of bison, large carniv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sion of human domestic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in rain forest, changes in land c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and arti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he Sixth Extinction – So Far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gest change so far (Pleistocene extinction) was prehisto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been very significant shifts in vegetation and fa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any extinctions would show up in the fossil re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tle change in easily fossilized marine fau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Human-Caused Extinctio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ssive Predation (Food, fur, collecting, pest eradication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itat De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ruction of keyston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Exotic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ution and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here Goes the Neighborhood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Show Up and Megafaunas Go Extin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 40,000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s 15,000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agascar 1000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Zealand 1000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Did Humans Cause the American Mass Extinction?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0948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ious: Threatens Image of Early Humans As Stewards of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igrants From Arctic Wouldn’t Have Fine-tuned Cultural Sense of How to Manage Temperat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Fauna Not Accustomed to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What Caused the American Mass Extinction?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24379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e out 20+ Previous Glacial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Ecolo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1c1c1c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 and C</a:t>
            </a:r>
            <a:r>
              <a:rPr b="0" lang="en-US" sz="4400" spc="-1" strike="noStrike" baseline="-25000">
                <a:solidFill>
                  <a:srgbClr val="1c1c1c"/>
                </a:solidFill>
                <a:latin typeface="Arial"/>
              </a:rPr>
              <a:t>4 </a:t>
            </a: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Grass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s to chemical reactions during photosynthesis (3- versus 4-carbon molecu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sses are cool climate, 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ses are warm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ses are richer in silica particles and wear teeth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20:48:15Z</dcterms:created>
  <dc:creator>Steven Dutch</dc:creator>
  <dc:description/>
  <dc:language>en-US</dc:language>
  <cp:lastModifiedBy>Lyn Clarkson</cp:lastModifiedBy>
  <dcterms:modified xsi:type="dcterms:W3CDTF">2009-08-26T03:54:07Z</dcterms:modified>
  <cp:revision>14</cp:revision>
  <dc:subject/>
  <dc:title>PowerPoint Presentation</dc:title>
</cp:coreProperties>
</file>